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dt" idx="2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move the slid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ftr" idx="2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 type="sldNum" idx="2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374B4-3CA9-485D-A7DC-63CB02C2F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thi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26740-AF1E-44CC-8B59-B7A3EEFDE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2A580-CFCA-4955-BB07-4FB799AA7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ail address, channel name and username: derbyla2@gmail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: derbyla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word: derbymemo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6D938-4888-469A-BAB4-DB992CFA0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D1821-1641-4EB6-B92A-9D4770BBC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C70-3462-4934-AF39-32949D62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781-83F9-43C7-9951-84CA9DCF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00A32-15AE-4AF0-92C6-EE6F50B8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843E4-84B3-43AD-B1E0-6EE8F5FE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4D495-2887-454F-976A-699AD8B6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CF3EA-AEB2-4371-A78B-1A08B57C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A208C-C0FB-4FDD-AB7E-0E39B0D5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28E75-858B-46A1-BB7D-797F6A61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84963-11BE-4BEC-9F97-A37C52CB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DBDBA-D6F8-4122-B0DE-3BE500E9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AAB51-0C60-45A2-8577-3C819DEF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BDF-F1FB-49E9-8B5F-9141EF70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783A-A21A-4E65-9463-5F488BCB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E4C-A0C1-4AFB-89B4-A7532078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0FC-40D8-4F89-AA64-34B49EF4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37C8DD-C6F6-4C48-8231-A4940FA8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74362A-2E95-4A20-8152-A787D85E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2B4232-D5FA-42F2-8006-9790A63D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3FE-881A-470C-AE12-08163C56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EB2D2C-33E0-446F-A07D-4AEFFDB1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B72C9-49BA-4D63-9471-2AB9B183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7FB91D-D49F-49D9-A103-9E339657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B176E-A58D-4CE0-B1B6-E4A50125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E96368-6A64-4DDC-8BBB-EA936A2E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976F43-3A78-4DF4-BA5A-47EC5966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FB1A14-FFA3-44A1-BE60-49C8D32E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B909C5-E7D0-43E6-840C-E71C7BB6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CAE7F1-034B-4123-B25B-D12531B4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358CEE-777C-410D-BDFF-806E963A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782-8052-43E8-8A97-35566BD5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351595-2D0B-4C81-997C-38262901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582F05-D592-4916-937C-E6EEE3EA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37023C-B976-45F7-B29D-D758597C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E02E40-A47A-49E7-A80B-1AF4204D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65ED8D-C539-4EC9-A364-99E7E442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950E73-6FEC-4940-AF73-D6065057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EBC099-1DCE-442B-8B33-423078DD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D831F2-91ED-4FCC-A5F4-1F5CC1C2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EC9433-3185-4FDF-AFA0-46E4A0EF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B5E6C9-EF08-4CC5-AA5E-7E904500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D91-BD10-4768-9633-5BA2139A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4E8C90-45FB-4F8A-B517-87E56190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5EA632-185A-4208-90CE-6DCD23E9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AD23CA-C6DE-48B0-879A-A44FF5F5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17F89B-F84F-4854-B96C-55EA6FDE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DF7515-520E-404D-A81D-FD46B108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D5109F-1217-4BE1-8B9D-A76C8DFA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581A26-A18E-4B7E-A473-39E7E38A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88548E-FCF4-4C7A-BA0F-CDCE3FA2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0FE954-57AE-4EA4-A7A6-DCE577C6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9D546F-2E05-4A97-91BC-C375DA0F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5FB-9D3B-491B-985E-7FBD4667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BDF7DD-D469-470A-A9C9-3246DBE1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D5561D-9CC3-4C52-824D-83267775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E957E0-861B-42FB-9FB7-71AB0EE7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79406B-ADCA-4F82-BED5-8570E494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B06D2F-7F0F-44A7-BE25-FA97FA3A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EE450F-9B77-4F54-9474-4B55BE88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A325B1-6477-480B-A1ED-291CAF7C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7DED27-CA64-4766-824F-62721BEB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16BE5D-F711-41A3-8897-4DA24568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015C6C-F599-4EA2-BAA7-1D40251C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EB8-4FEF-43F4-B725-A7BF427D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2A80DF-29D7-42C3-B8B3-A000A177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D3F2C9-95ED-4D4F-8595-3625C41D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11A321-8736-4DF8-AE72-918F6CAD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A1BC8A-5ECE-408E-93D9-A494FC3C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792562-B698-48C2-8DB7-7F067C23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2B7E19-062B-47BE-B1F1-E3042E35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15EDCD-2C23-49F5-A105-F582AAAC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45A2DE-432C-4485-A79F-3A9D2B14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AF1696-2C7F-4BFE-8060-26C1FE67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D3AF60-1D17-47CD-AA86-B1D84CC8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5D5-A210-4A61-83BB-378D86CC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CF9546-64E0-4DA3-BCCA-5DCBB340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5A490A-0E50-4393-B932-57A8DFD9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E050B1-8775-41DC-9D38-68CF362A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70F088-A993-43B0-A981-5A7039CD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2748B5-6A66-481D-A62F-E134A98F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F54F03-1E92-4A79-A2E8-1BFD69A2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429661-3405-4894-95DB-CF71241D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AF33B-78C7-4B5B-B70E-05563D01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60394-DC8D-43D4-B91B-32713DF8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C40EE-0847-4FCB-AD55-12009F6B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C68FC-5013-4182-838B-234505A543A8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DB8C6-FBEB-4DA2-99FE-65EF7431B546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F216E-4B38-4D3E-A37C-C4121F68ADBB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A5319-90BD-4737-B5C4-AC4FDBB934FE}" type="slidenum">
              <a:rPr b="0" lang="en-US" sz="1200" spc="-1" strike="noStrike">
                <a:solidFill>
                  <a:srgbClr val="19443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8EB20-E7B3-436A-AA3D-328A0B1A581F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10A12-484B-4365-86A7-A157C2E3F6FD}" type="slidenum">
              <a:rPr b="0" lang="en-US" sz="1200" spc="-1" strike="noStrike">
                <a:solidFill>
                  <a:srgbClr val="19443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364E3-8D5E-47E4-A53A-5B30C0613DBC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vlock13.wikis.birmingham.k12.mi.u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3560" y="3776400"/>
            <a:ext cx="7196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Arial Black"/>
              </a:rPr>
              <a:t>iMovie Tip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848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 Black"/>
              </a:rPr>
              <a:t>Saving Imag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20760" y="1808280"/>
            <a:ext cx="85471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Use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CopyRight Friendly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it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c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Save Pictures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(double click on the picture so you capture the picture in isolation.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c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Water Mark Fre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c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Site Sources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(Noodle Tool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77" name="Picture 5" descr="watermark sample.jpg"/>
          <p:cNvPicPr/>
          <p:nvPr/>
        </p:nvPicPr>
        <p:blipFill>
          <a:blip r:embed="rId1"/>
          <a:stretch/>
        </p:blipFill>
        <p:spPr>
          <a:xfrm>
            <a:off x="1523880" y="4098960"/>
            <a:ext cx="2676600" cy="1781280"/>
          </a:xfrm>
          <a:prstGeom prst="rect">
            <a:avLst/>
          </a:prstGeom>
          <a:ln w="50760">
            <a:solidFill>
              <a:srgbClr val="ff9d20"/>
            </a:solidFill>
            <a:miter/>
          </a:ln>
        </p:spPr>
      </p:pic>
      <p:sp>
        <p:nvSpPr>
          <p:cNvPr id="378" name="Straight Connector 7"/>
          <p:cNvSpPr/>
          <p:nvPr/>
        </p:nvSpPr>
        <p:spPr>
          <a:xfrm>
            <a:off x="1523880" y="4098960"/>
            <a:ext cx="2676600" cy="1781280"/>
          </a:xfrm>
          <a:prstGeom prst="line">
            <a:avLst/>
          </a:prstGeom>
          <a:ln w="50760">
            <a:solidFill>
              <a:srgbClr val="f83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 Black"/>
                <a:ea typeface="Arial Black"/>
              </a:rPr>
              <a:t>Posting Your iMovi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64880" y="1738080"/>
            <a:ext cx="8739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Go to </a:t>
            </a:r>
            <a:r>
              <a:rPr b="0" lang="en-US" sz="2400" spc="-1" strike="noStrike" u="sng">
                <a:solidFill>
                  <a:srgbClr val="ff621d"/>
                </a:solidFill>
                <a:uFillTx/>
                <a:latin typeface="Arial Rounded MT Bold"/>
                <a:ea typeface="Arial Rounded MT Bold"/>
                <a:hlinkClick r:id="rId1"/>
              </a:rPr>
              <a:t>http://pavlock13.wikis.birmingham.k12.mi.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2520" indent="-452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Create a New Pag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2520" indent="-452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Name Page: Topic + First Name, First Letter of Last Name (Can You Hear Me Now? Kim P &amp; Joanne 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2520" indent="-452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g the page: (your hour+ hear (1hear, 2hear, 3hear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2520" indent="-452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Create the Pag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2520" indent="-452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ype the word Citations on the page, the click SAV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2520" indent="-452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 the URL in your iMovie credits. Shorten the URL by going to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  <a:ea typeface="Arial Rounded MT Bold"/>
              </a:rPr>
              <a:t> bitly.co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Arial Black"/>
              </a:rPr>
              <a:t>Exporting to YouTub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rcRect l="23642" t="10497" r="23879" b="52253"/>
          <a:stretch/>
        </p:blipFill>
        <p:spPr>
          <a:xfrm>
            <a:off x="1130400" y="2008080"/>
            <a:ext cx="7246800" cy="41148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3192480" y="4346640"/>
            <a:ext cx="32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Password: derbymem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Rounded Rectangle 3"/>
          <p:cNvGrpSpPr/>
          <p:nvPr/>
        </p:nvGrpSpPr>
        <p:grpSpPr>
          <a:xfrm>
            <a:off x="3011400" y="3560760"/>
            <a:ext cx="3645000" cy="919080"/>
            <a:chOff x="3011400" y="3560760"/>
            <a:chExt cx="3645000" cy="919080"/>
          </a:xfrm>
        </p:grpSpPr>
        <p:pic>
          <p:nvPicPr>
            <p:cNvPr id="385" name="Rounded Rectangle 3" descr=""/>
            <p:cNvPicPr/>
            <p:nvPr/>
          </p:nvPicPr>
          <p:blipFill>
            <a:blip r:embed="rId2"/>
            <a:stretch/>
          </p:blipFill>
          <p:spPr>
            <a:xfrm>
              <a:off x="3011400" y="3560760"/>
              <a:ext cx="364500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3225960" y="3691080"/>
              <a:ext cx="321444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Box 4"/>
          <p:cNvSpPr/>
          <p:nvPr/>
        </p:nvSpPr>
        <p:spPr>
          <a:xfrm>
            <a:off x="3289320" y="383544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byla2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Share Projec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rcRect l="20158" t="19828" r="35825" b="29842"/>
          <a:stretch/>
        </p:blipFill>
        <p:spPr>
          <a:xfrm>
            <a:off x="1828800" y="1816200"/>
            <a:ext cx="5367240" cy="4908600"/>
          </a:xfrm>
          <a:prstGeom prst="rect">
            <a:avLst/>
          </a:prstGeom>
          <a:ln w="0">
            <a:noFill/>
          </a:ln>
        </p:spPr>
      </p:pic>
      <p:sp>
        <p:nvSpPr>
          <p:cNvPr id="390" name="Left Arrow 3"/>
          <p:cNvSpPr/>
          <p:nvPr/>
        </p:nvSpPr>
        <p:spPr>
          <a:xfrm>
            <a:off x="4267080" y="3251160"/>
            <a:ext cx="1930680" cy="4939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4586400" y="3381480"/>
            <a:ext cx="161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</a:rPr>
              <a:t>Title of Pro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eft Arrow 5"/>
          <p:cNvSpPr/>
          <p:nvPr/>
        </p:nvSpPr>
        <p:spPr>
          <a:xfrm>
            <a:off x="2627280" y="4216320"/>
            <a:ext cx="4121280" cy="70344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2960640" y="440064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Black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Names of Students+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ight Arrow 7"/>
          <p:cNvSpPr/>
          <p:nvPr/>
        </p:nvSpPr>
        <p:spPr>
          <a:xfrm>
            <a:off x="4267080" y="5294160"/>
            <a:ext cx="154944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79200"/>
            <a:ext cx="89694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 Black"/>
              </a:rPr>
              <a:t>Share Project Continued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rcRect l="20019" t="20153" r="35456" b="24811"/>
          <a:stretch/>
        </p:blipFill>
        <p:spPr>
          <a:xfrm>
            <a:off x="2046240" y="1733400"/>
            <a:ext cx="4992840" cy="4937400"/>
          </a:xfrm>
          <a:prstGeom prst="rect">
            <a:avLst/>
          </a:prstGeom>
          <a:ln w="0">
            <a:noFill/>
          </a:ln>
        </p:spPr>
      </p:pic>
      <p:grpSp>
        <p:nvGrpSpPr>
          <p:cNvPr id="397" name="Left Arrow 4"/>
          <p:cNvGrpSpPr/>
          <p:nvPr/>
        </p:nvGrpSpPr>
        <p:grpSpPr>
          <a:xfrm>
            <a:off x="4395960" y="2309760"/>
            <a:ext cx="2084040" cy="622440"/>
            <a:chOff x="4395960" y="2309760"/>
            <a:chExt cx="2084040" cy="622440"/>
          </a:xfrm>
        </p:grpSpPr>
        <p:pic>
          <p:nvPicPr>
            <p:cNvPr id="398" name="Left Arrow 4" descr=""/>
            <p:cNvPicPr/>
            <p:nvPr/>
          </p:nvPicPr>
          <p:blipFill>
            <a:blip r:embed="rId2"/>
            <a:stretch/>
          </p:blipFill>
          <p:spPr>
            <a:xfrm>
              <a:off x="4395960" y="2309760"/>
              <a:ext cx="20840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4640400" y="2514600"/>
              <a:ext cx="1687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Left Arrow 5"/>
          <p:cNvGrpSpPr/>
          <p:nvPr/>
        </p:nvGrpSpPr>
        <p:grpSpPr>
          <a:xfrm>
            <a:off x="2687760" y="6175440"/>
            <a:ext cx="1719000" cy="622080"/>
            <a:chOff x="2687760" y="6175440"/>
            <a:chExt cx="1719000" cy="622080"/>
          </a:xfrm>
        </p:grpSpPr>
        <p:pic>
          <p:nvPicPr>
            <p:cNvPr id="401" name="Left Arrow 5" descr=""/>
            <p:cNvPicPr/>
            <p:nvPr/>
          </p:nvPicPr>
          <p:blipFill>
            <a:blip r:embed="rId3"/>
            <a:stretch/>
          </p:blipFill>
          <p:spPr>
            <a:xfrm>
              <a:off x="2687760" y="6175440"/>
              <a:ext cx="171900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 rot="10800000">
              <a:off x="2830320" y="6376680"/>
              <a:ext cx="13381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Left Arrow 6"/>
          <p:cNvGrpSpPr/>
          <p:nvPr/>
        </p:nvGrpSpPr>
        <p:grpSpPr>
          <a:xfrm>
            <a:off x="2987640" y="4316400"/>
            <a:ext cx="2084400" cy="620640"/>
            <a:chOff x="2987640" y="4316400"/>
            <a:chExt cx="2084400" cy="620640"/>
          </a:xfrm>
        </p:grpSpPr>
        <p:pic>
          <p:nvPicPr>
            <p:cNvPr id="404" name="Left Arrow 6" descr=""/>
            <p:cNvPicPr/>
            <p:nvPr/>
          </p:nvPicPr>
          <p:blipFill>
            <a:blip r:embed="rId4"/>
            <a:stretch/>
          </p:blipFill>
          <p:spPr>
            <a:xfrm>
              <a:off x="2987640" y="4316400"/>
              <a:ext cx="20844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3233880" y="4518000"/>
              <a:ext cx="16858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"/>
          <p:cNvPicPr/>
          <p:nvPr/>
        </p:nvPicPr>
        <p:blipFill>
          <a:blip r:embed="rId1"/>
          <a:srcRect l="7745" t="13217" r="6971" b="21312"/>
          <a:stretch/>
        </p:blipFill>
        <p:spPr>
          <a:xfrm>
            <a:off x="15840" y="976320"/>
            <a:ext cx="9128160" cy="56070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2728800" y="174600"/>
            <a:ext cx="285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Cred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Right Arrow 5"/>
          <p:cNvGrpSpPr/>
          <p:nvPr/>
        </p:nvGrpSpPr>
        <p:grpSpPr>
          <a:xfrm>
            <a:off x="85680" y="1365120"/>
            <a:ext cx="676440" cy="506520"/>
            <a:chOff x="85680" y="1365120"/>
            <a:chExt cx="676440" cy="506520"/>
          </a:xfrm>
        </p:grpSpPr>
        <p:pic>
          <p:nvPicPr>
            <p:cNvPr id="409" name="Right Arrow 5" descr=""/>
            <p:cNvPicPr/>
            <p:nvPr/>
          </p:nvPicPr>
          <p:blipFill>
            <a:blip r:embed="rId2"/>
            <a:stretch/>
          </p:blipFill>
          <p:spPr>
            <a:xfrm>
              <a:off x="85680" y="1365120"/>
              <a:ext cx="6764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203040" y="1549440"/>
              <a:ext cx="3733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Right Arrow 6"/>
          <p:cNvGrpSpPr/>
          <p:nvPr/>
        </p:nvGrpSpPr>
        <p:grpSpPr>
          <a:xfrm>
            <a:off x="23760" y="2023920"/>
            <a:ext cx="671400" cy="506520"/>
            <a:chOff x="23760" y="2023920"/>
            <a:chExt cx="671400" cy="506520"/>
          </a:xfrm>
        </p:grpSpPr>
        <p:pic>
          <p:nvPicPr>
            <p:cNvPr id="412" name="Right Arrow 6" descr=""/>
            <p:cNvPicPr/>
            <p:nvPr/>
          </p:nvPicPr>
          <p:blipFill>
            <a:blip r:embed="rId3"/>
            <a:stretch/>
          </p:blipFill>
          <p:spPr>
            <a:xfrm>
              <a:off x="23760" y="2023920"/>
              <a:ext cx="6714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38240" y="2209680"/>
              <a:ext cx="3729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Right Arrow 7"/>
          <p:cNvGrpSpPr/>
          <p:nvPr/>
        </p:nvGrpSpPr>
        <p:grpSpPr>
          <a:xfrm>
            <a:off x="85680" y="3286080"/>
            <a:ext cx="676440" cy="511200"/>
            <a:chOff x="85680" y="3286080"/>
            <a:chExt cx="676440" cy="511200"/>
          </a:xfrm>
        </p:grpSpPr>
        <p:pic>
          <p:nvPicPr>
            <p:cNvPr id="415" name="Right Arrow 7" descr=""/>
            <p:cNvPicPr/>
            <p:nvPr/>
          </p:nvPicPr>
          <p:blipFill>
            <a:blip r:embed="rId4"/>
            <a:stretch/>
          </p:blipFill>
          <p:spPr>
            <a:xfrm>
              <a:off x="85680" y="3286080"/>
              <a:ext cx="6764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203040" y="3471840"/>
              <a:ext cx="3733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Right Arrow 8"/>
          <p:cNvGrpSpPr/>
          <p:nvPr/>
        </p:nvGrpSpPr>
        <p:grpSpPr>
          <a:xfrm>
            <a:off x="85680" y="4675320"/>
            <a:ext cx="676440" cy="506160"/>
            <a:chOff x="85680" y="4675320"/>
            <a:chExt cx="676440" cy="506160"/>
          </a:xfrm>
        </p:grpSpPr>
        <p:pic>
          <p:nvPicPr>
            <p:cNvPr id="418" name="Right Arrow 8" descr=""/>
            <p:cNvPicPr/>
            <p:nvPr/>
          </p:nvPicPr>
          <p:blipFill>
            <a:blip r:embed="rId5"/>
            <a:stretch/>
          </p:blipFill>
          <p:spPr>
            <a:xfrm>
              <a:off x="85680" y="4675320"/>
              <a:ext cx="67644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03040" y="4859280"/>
              <a:ext cx="373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3:20:05Z</dcterms:created>
  <dc:creator>Joanne Rowe</dc:creator>
  <dc:description/>
  <dc:language>en-US</dc:language>
  <cp:lastModifiedBy>Joanne Rowe</cp:lastModifiedBy>
  <dcterms:modified xsi:type="dcterms:W3CDTF">2013-12-16T06:19:35Z</dcterms:modified>
  <cp:revision>19</cp:revision>
  <dc:subject/>
  <dc:title>iMovie Tips</dc:title>
</cp:coreProperties>
</file>